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dt" idx="2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726E-5FAC-44C8-B7A7-72640F22E9E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7704-ECC9-44C2-B422-DD9BC1C720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05EB-5C20-4E5D-B568-32A613C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C737-093A-4C91-9A2E-B505843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7B8A-1DC4-4995-85C5-8DAC5EDD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281A-34AA-4013-A7BA-4B104E5E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E67C2-EB6C-4EA4-BAED-773FF3F5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2432-538A-4CB6-9B29-6EE3B32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6757-DD5D-4E82-89FD-16D5F185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6A4EE-8262-472A-ADB8-D1041D24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FC17-8FA5-4362-83EE-609E7A7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37BD-FF7F-45E9-A99C-9CD3A5006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11194-2435-42BC-97CF-CB6ED32C8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9A21-B57D-420F-A534-876C549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09E3B-D1AB-4755-865D-9F0B9C3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998D0-6C2F-4041-936C-B0DAB426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83DB3-5CC5-454E-B470-160220DA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5E0A9-47F6-4282-8A4A-3B67FEE7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0C57D-AAA7-4B7D-BAE1-E9D72106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6BCAC-4A08-4B92-8927-CCEBB5B1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BF2B6-341B-47E1-9536-C8B90FC3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99708-A80B-42DF-8155-F9237CAD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03969-84F6-41D2-82AA-1724A126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D3BFE5-05C1-421A-BA24-A51BC5D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3A7C-B0EE-4D26-9A83-CC1FADB5C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DA6AE-9FE0-40E4-AB1B-A3093085E2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C5CCE0-0D54-4F6A-90CC-7AD45E301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75DBC-0577-4A65-936A-AE2B99D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3859E5-B043-4B1C-81AF-9B84852F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36C494-8FFD-49E7-BFA5-9C561D4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87A67-D69B-4975-9B20-F12134B3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8939AB-B11B-4A95-89E9-B3863463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A04CE5-3816-48BB-A17B-94E816FC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6E6C8-EF7B-46CB-A0C5-F9F9786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9D3C1D-10E4-48E2-B2C6-ADAF2ED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5897A-A23D-467C-B579-1A6800440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20B92-590C-4BDB-AA14-C671E62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06F275-92BB-41D2-94EC-0B25F93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CE46DC-6335-48C6-80BF-ADC5931466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652B-0F9C-418D-B05A-30B5679E2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BDA8-BF80-487D-AB6E-124825D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BB138-B70F-44DB-8217-65BB9CA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E1AFB-5E0A-4EFA-873B-15BCE6E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91D01-2863-4321-A47E-3FD5D8FE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56683-AC12-4098-8A29-EA862F46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CD46B-AD98-4935-8881-E2EBDCDD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AB88E-3D5F-47D8-8A57-6F10E933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90602-E91C-4855-BFAE-78594BD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C1E64-D944-419A-B965-E7FF603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16D74-ACCF-4BA9-98EF-C84468C6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1624-76A0-443E-A4D6-02C2BE5F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095BF-5767-4202-8639-3F967532B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0C818-488A-43D6-A091-1D236EEC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BEDCC-81C4-4722-BDFC-B4C4259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8CE7-561F-484E-8DEC-CA143DE5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CE66-33A9-485A-908C-856A0D67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D6E35-F037-4810-B5BF-1857A52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7A59-FA1F-4562-A942-80F089A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921E7-12BF-47AB-B8D7-F59FC3F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6D5F8-BD20-498C-ADCE-0083066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D8F61-8975-4455-A261-0374A73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245EF-0C5B-417B-B888-B6B5E074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97C41-A05B-4FD5-A9E4-57199A99F9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5C42-55CA-4948-A74D-A871863449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539-7DF9-41C6-8D9E-4698597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252B-8303-4618-B5AE-1AEAB05F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A3A4-9C3D-4685-AD65-2F0F0AE9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21D5-5815-48B7-A910-392D240B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6E0F-6050-438E-9EE9-1AC6F57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D07E-BCD1-4ECF-B9A7-9E995755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720-6AB1-4AB9-A375-0AF55467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A2A7-A511-455E-AD01-3ABE4853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491E-FEF4-4B20-AB7E-1A2876AF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132-51FE-4C70-AA9C-1CD08CD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8601-E9B7-4008-970E-64C9F53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7684-E873-46CE-BFB4-EC9891FF62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96B89-0664-4B18-9563-521298106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7AB92-576D-4383-A929-D04B9C8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4B7BF-1FE6-49CA-BDDF-346FD04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F061-C1E2-40F5-A45B-D0C0A012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732D1-DAA8-47D7-8ED3-C7AFDB9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84D73-57FA-4B5F-B2D1-5330153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C00BA-BB1E-4CB9-AA63-F10C033A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5EEC6-DA4A-44E4-9A48-5CDE0B4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5A679-F8C2-4F41-8CDA-DD40445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111BC-F6E1-43D0-A36C-E2B27E9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AA867-2FCB-4A31-831C-0C066D2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95C3F-36EC-4BA4-B496-919E636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3E5A5-388E-4798-A271-801035B6C4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1C80F3-2716-4CE4-9B7C-F73CFF6DE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1265-0E7E-4E8F-9084-29CD581B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B8D81-5C1C-4607-8163-08849D60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F7CF5-0178-4FD8-8CC7-9D5B4867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7A001-53CB-4F7B-9368-16000CF7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F26D6-3A88-405C-A18C-2AE73EDD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6DD70-8D42-4D71-9666-9E980FDB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F86E0-CE43-483E-A84E-99E690C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C1F63-15D8-43E7-8710-6762F26F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6D488-B062-48DA-A493-74110656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1A86C-7C86-4670-89CB-B1CB243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78DB3-F10E-4918-B751-97375879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396C-048F-4D4A-A4C9-1524F9B5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D2391-A2D3-482D-97F1-A5050042B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8EFE-7F09-4FD2-8D42-4B817B579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0B00-9628-40D0-A5B3-13CEAF34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E75A-F2AF-42B8-9630-604EA1E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073F-E81A-4A9C-A8DB-5A0F7A80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1457-9B35-4CC5-93C2-E0F9D71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CB02-FEF8-4A15-AD3B-4D28F7D0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BE8F1-1B9A-40F0-9514-87E31B1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631C-BD17-47D4-83D1-BA2457F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1ED5-715D-4E40-8EBB-FA5B58A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0EAC-4F0C-49B0-B0CD-3CB794D4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4E8F-7645-4B3D-80F2-F208A764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6E7B-3B41-4AE0-935C-21D1B52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1B4D-F5A5-4361-B99D-2055BCE87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D7356-5596-4EFA-8C8D-AA21D98FA3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B569A-3E9F-4A52-B78C-C57BD5C9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9DE31-F349-46FA-82C2-E99CF52A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6AC7D-EAC3-422F-AB84-B16C13C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367B4-1EF8-4050-A770-FD5CD599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1219C-D9BB-4350-8027-34FDA849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9D53E-81A2-4BE4-9B97-15B015C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C1FD-8B79-4761-8257-4ED9064E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19D83-CB57-4B72-BA58-A79BB95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40F63-2C6B-4AF1-B245-9C191578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6DCBE-184A-460D-8C79-958B7F4E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08D77-69C8-485A-955F-2CE62F79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B0BCF-5DF7-4A4F-88BE-922B34635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70132-0D26-4971-85BF-374FB21D0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D8848-3F96-45C0-B59F-5E79CB0A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0A4A9-3C30-402E-A8A1-F021FFFC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6C8375-4CC2-42CA-8A32-79D01A6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A1175-8CDF-4310-85EA-62B5D9E5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E6BD-7EC3-4F31-B2AD-C0A956B3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5B4B2-29A3-4003-BEE7-A33FFBFD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3A5D70-FC26-4554-A33F-BEBE38A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0982E-2599-4902-9CA5-321B6D0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DB8F80-E793-4051-84B7-E9A1C65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840" y="3680640"/>
            <a:ext cx="8226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50B5C-2DD8-4E2D-BB9A-32B0A5A6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2440" y="3680640"/>
            <a:ext cx="401436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18A92-4221-4461-B26D-8AB1D8D0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684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820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9560" y="3680640"/>
            <a:ext cx="264852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7B2741-F7A6-4563-AFD2-69E1095F8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67D0-EEB9-487E-9A76-65C2D7E04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BFAE4-02C6-4BF5-85B8-A9AC2F0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986A-1D94-4328-99F8-1DD8095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4/03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904D6-385A-4C68-89F1-8CF707C832F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2080" y="4800240"/>
            <a:ext cx="548316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92440" y="6127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792080" y="5366880"/>
            <a:ext cx="54831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5472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54720" indent="-5472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8C6D9-DE97-4885-BA82-5C06B74A0D35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A5916-748D-4325-A544-114236A74753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054160" cy="584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274320"/>
            <a:ext cx="601668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825DF-C812-499C-9AFC-87BBBF3E2F57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FA3E4-88F1-4A43-9E87-F63F2F8F827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86BF1-A989-48AA-B37B-D59896F426EE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400"/>
            <a:ext cx="776952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6952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marL="1094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27CAC-B2BE-497E-8FDC-ABA5D9E98504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713F5-6186-4911-B536-506E7252454A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7040" cy="6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marL="410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18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0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18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22ED6-E430-493E-874D-FDBC5B2FE01C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CF31A-3552-44C5-8C63-ED0EE3A04EA1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6FA0-03E2-4C86-9735-83EFC29E227B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5280" cy="115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84360" indent="-684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131840"/>
                <a:tab algn="l" pos="1581120"/>
                <a:tab algn="l" pos="2030400"/>
                <a:tab algn="l" pos="2479680"/>
                <a:tab algn="l" pos="2928960"/>
                <a:tab algn="l" pos="3378240"/>
                <a:tab algn="l" pos="3827520"/>
                <a:tab algn="l" pos="4276800"/>
                <a:tab algn="l" pos="4726080"/>
                <a:tab algn="l" pos="5175360"/>
                <a:tab algn="l" pos="5624640"/>
                <a:tab algn="l" pos="6073920"/>
                <a:tab algn="l" pos="6523200"/>
                <a:tab algn="l" pos="6972480"/>
                <a:tab algn="l" pos="7421400"/>
                <a:tab algn="l" pos="7870680"/>
                <a:tab algn="l" pos="8319960"/>
                <a:tab algn="l" pos="8769240"/>
                <a:tab algn="l" pos="9218520"/>
                <a:tab algn="l" pos="966780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lique para editar os estilos do texto mestre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gundo nível</a:t>
            </a:r>
            <a:br>
              <a:rPr sz="2800"/>
            </a:b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Terceiro nível</a:t>
            </a:r>
            <a:br>
              <a:rPr sz="24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arto nível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int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52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60" indent="-2055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14/03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44F4-8F83-4045-93BD-77E7929E14A6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8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8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8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480" y="11160"/>
            <a:ext cx="9173880" cy="6834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0" y="50133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8f8f8"/>
                </a:solidFill>
                <a:latin typeface="Arial Black"/>
              </a:rPr>
              <a:t>NTE NOVA ANDRA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2527200"/>
            <a:ext cx="9144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6000" y="576360"/>
            <a:ext cx="8712000" cy="61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2527200"/>
            <a:ext cx="9144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360" y="684360"/>
            <a:ext cx="878364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627280" y="5411880"/>
            <a:ext cx="6337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NÚCLEO DE TECNOLOGIA EDUC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NOVA ANDRADINA –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94715"/>
                </a:solidFill>
                <a:latin typeface="Arial Black"/>
              </a:rPr>
              <a:t>0800 647 4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47640" y="5472000"/>
            <a:ext cx="1871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23:28:51Z</dcterms:created>
  <dc:creator>fbaptista</dc:creator>
  <dc:description/>
  <dc:language>en-US</dc:language>
  <cp:lastModifiedBy/>
  <dcterms:modified xsi:type="dcterms:W3CDTF">2016-03-14T19:50:15Z</dcterms:modified>
  <cp:revision>255</cp:revision>
  <dc:subject/>
  <dc:title>Slide 1</dc:title>
</cp:coreProperties>
</file>